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44D-225D-43A7-BA9E-B81308C2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D69-D029-4481-BE33-0E649F1D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9B6-B8E8-41F8-A52E-05E94663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692-70B8-49D4-8290-432DF976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EAE9-F341-4094-93D7-F62FA994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0B52-4750-407B-A402-E60D5053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ABC7-0700-4B5A-BB3A-1B7865E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FCCF-782B-48E7-9E56-E5A9F775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2AFA-DE81-4AFE-8709-01855AAC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B19-931B-473A-881C-5EB959F3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1BE9-1A52-49F1-8958-DF3E3696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4F7-BF16-4DEF-8375-78C0D2B6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EB6B-7D41-43DF-AB01-B57CC2F2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35E7-9CF0-44E4-964C-2595DF7E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FC90-AB1E-4E7D-B98B-7CE14A00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A2D7-3D9A-43A7-8666-D0CE57ED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56C5-6C9E-4DC9-B79F-936A21EC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DBF-95D0-47F9-93CB-896330AA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77A-8F76-4607-8251-AAEFE43C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442-FE60-4F68-9C64-9D7B6447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0DC-AF94-4AA5-B9A8-224A9D2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904-9B91-4810-AB52-BDBFB9A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E4D-45C3-4C6A-9F28-00A09186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0A4-A3FC-41EE-A956-3E5422AB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7D9A-8A50-4CE5-BFAD-76EDC4C3370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9545-4591-41F2-8FB2-32F697CBC35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820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66ff"/>
                </a:solidFill>
                <a:latin typeface="Arial"/>
                <a:ea typeface="黑体"/>
              </a:rPr>
              <a:t>完善自我是获取成功的唯一道路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468720" y="475920"/>
            <a:ext cx="96123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3366ff"/>
                </a:solidFill>
                <a:latin typeface="黑体"/>
                <a:ea typeface="黑体"/>
              </a:rPr>
              <a:t>第一阶段：</a:t>
            </a:r>
            <a:r>
              <a:rPr b="1" lang="zh-CN" sz="5600" spc="-1" strike="noStrike">
                <a:solidFill>
                  <a:srgbClr val="007a77"/>
                </a:solidFill>
                <a:latin typeface="黑体"/>
                <a:ea typeface="黑体"/>
              </a:rPr>
              <a:t>1—7</a:t>
            </a:r>
            <a:r>
              <a:rPr b="1" lang="zh-CN" sz="5600" spc="-1" strike="noStrike">
                <a:solidFill>
                  <a:srgbClr val="007a77"/>
                </a:solidFill>
                <a:latin typeface="黑体"/>
                <a:ea typeface="黑体"/>
              </a:rPr>
              <a:t>天</a:t>
            </a:r>
            <a:r>
              <a:rPr b="1" lang="zh-CN" sz="5600" spc="-1" strike="noStrike">
                <a:solidFill>
                  <a:srgbClr val="3366ff"/>
                </a:solidFill>
                <a:latin typeface="黑体"/>
                <a:ea typeface="黑体"/>
              </a:rPr>
              <a:t>左右。此阶段的特征是</a:t>
            </a:r>
            <a:r>
              <a:rPr b="1" lang="zh-CN" sz="5600" spc="-1" strike="noStrike">
                <a:solidFill>
                  <a:srgbClr val="dc5900"/>
                </a:solidFill>
                <a:latin typeface="黑体"/>
                <a:ea typeface="黑体"/>
              </a:rPr>
              <a:t>“刻意，不自然”。</a:t>
            </a:r>
            <a:r>
              <a:rPr b="1" lang="zh-CN" sz="5600" spc="-1" strike="noStrike">
                <a:solidFill>
                  <a:srgbClr val="3366ff"/>
                </a:solidFill>
                <a:latin typeface="黑体"/>
                <a:ea typeface="黑体"/>
              </a:rPr>
              <a:t>你需要</a:t>
            </a:r>
            <a:r>
              <a:rPr b="1" lang="zh-CN" sz="5600" spc="-1" strike="noStrike">
                <a:solidFill>
                  <a:srgbClr val="007a77"/>
                </a:solidFill>
                <a:latin typeface="黑体"/>
                <a:ea typeface="黑体"/>
              </a:rPr>
              <a:t>十分刻意提醒自己改变，而且会觉得有些不自然，不舒服。</a:t>
            </a:r>
            <a:r>
              <a:rPr b="1" lang="zh-CN" sz="5600" spc="-1" strike="noStrike">
                <a:solidFill>
                  <a:srgbClr val="3366ff"/>
                </a:solidFill>
                <a:latin typeface="黑体"/>
                <a:ea typeface="黑体"/>
              </a:rPr>
              <a:t>这一阶段，你能感受到新旧习惯格斗的疲累，也能体味到不断超越旧习惯的欣喜。</a:t>
            </a:r>
            <a:endParaRPr b="0" lang="en-US" sz="5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939636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黑体"/>
                <a:ea typeface="黑体"/>
              </a:rPr>
              <a:t>第二阶段：</a:t>
            </a: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7—21</a:t>
            </a: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天</a:t>
            </a:r>
            <a:r>
              <a:rPr b="1" lang="zh-CN" sz="4800" spc="-1" strike="noStrike">
                <a:solidFill>
                  <a:srgbClr val="3366ff"/>
                </a:solidFill>
                <a:latin typeface="黑体"/>
                <a:ea typeface="黑体"/>
              </a:rPr>
              <a:t>。不要放弃第一阶段的努力，继续重复，跨入第二阶段。此阶段的特征是</a:t>
            </a: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“刻意，自然”。</a:t>
            </a:r>
            <a:r>
              <a:rPr b="1" lang="zh-CN" sz="4800" spc="-1" strike="noStrike">
                <a:solidFill>
                  <a:srgbClr val="3366ff"/>
                </a:solidFill>
                <a:latin typeface="黑体"/>
                <a:ea typeface="黑体"/>
              </a:rPr>
              <a:t>你已经觉得比较自然，比较舒服了，但是一不留意，你又会回到从前。因此这一时期也是最危险的时期，许多新习惯由于在这一时期疏忽了对自己的提示而又回到原点。所以你还需经常刻意提醒自己改变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第三阶段：</a:t>
            </a: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21</a:t>
            </a: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天—</a:t>
            </a: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90</a:t>
            </a: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天。此阶段的特征是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5900"/>
                </a:solidFill>
                <a:latin typeface="黑体"/>
                <a:ea typeface="黑体"/>
              </a:rPr>
              <a:t>    “</a:t>
            </a:r>
            <a:r>
              <a:rPr b="1" lang="zh-CN" sz="6000" spc="-1" strike="noStrike">
                <a:solidFill>
                  <a:srgbClr val="dc5900"/>
                </a:solidFill>
                <a:latin typeface="黑体"/>
                <a:ea typeface="黑体"/>
              </a:rPr>
              <a:t>不经意，自然”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一旦跨入此阶段，你已经完成了自我改造，这项习惯已经成为你生命中一个有机组成部分，它会</a:t>
            </a:r>
            <a:r>
              <a:rPr b="1" lang="zh-CN" sz="6000" spc="-1" strike="noStrike">
                <a:solidFill>
                  <a:srgbClr val="dc5900"/>
                </a:solidFill>
                <a:latin typeface="黑体"/>
                <a:ea typeface="黑体"/>
              </a:rPr>
              <a:t>自然而然地</a:t>
            </a:r>
            <a:r>
              <a:rPr b="1" lang="zh-CN" sz="6000" spc="-1" strike="noStrike">
                <a:solidFill>
                  <a:srgbClr val="007a77"/>
                </a:solidFill>
                <a:latin typeface="黑体"/>
                <a:ea typeface="黑体"/>
              </a:rPr>
              <a:t>不停地</a:t>
            </a: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为你服务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08360" y="40428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5900"/>
                </a:solidFill>
                <a:latin typeface="Arial"/>
                <a:ea typeface="黑体"/>
              </a:rPr>
              <a:t>坚持是养成习惯的唯一道路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92394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黑体"/>
              </a:rPr>
              <a:t>在一个新习惯形成的全过程中，   有两个最最关键的字——坚持。特别是第一阶段和第二阶段，只有不断坚持，你才会由“刻意，不自然”过渡到“刻意，自然”，最终达到“不经意，自然”的境界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c5900"/>
                </a:solidFill>
                <a:latin typeface="Arial"/>
                <a:ea typeface="黑体"/>
              </a:rPr>
              <a:t>你应该养成的好习惯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893440" cy="47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养成合理安排时间、做学习计划的习惯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养成课前预习的习惯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养成集中注意力听课的习惯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养成做笔记的习惯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养成及时完成作业的习惯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养成及时复习总结的习惯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3366ff"/>
              </a:solidFill>
              <a:latin typeface="Arial"/>
              <a:ea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85406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黑体"/>
              </a:rPr>
              <a:t>每形成一种好习惯，就是对自身缺陷的一次完善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黑体"/>
              </a:rPr>
              <a:t>你会拥有信心、快乐、幸福、成功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黑体"/>
              </a:rPr>
              <a:t>你失去的是锁链，获得的是自由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8800" spc="-1" strike="noStrike">
                <a:solidFill>
                  <a:srgbClr val="dc5900"/>
                </a:solidFill>
                <a:latin typeface="Arial"/>
                <a:ea typeface="黑体"/>
              </a:rPr>
              <a:t>（三）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8800" spc="-1" strike="noStrike">
                <a:solidFill>
                  <a:srgbClr val="dc5900"/>
                </a:solidFill>
                <a:latin typeface="Arial"/>
                <a:ea typeface="黑体"/>
              </a:rPr>
              <a:t>提高自我意识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820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在你心灵的眼睛面前放置一幅自我肖像，你就会越来越与它相近。你把自己想象成一个失败者，它带给你的只能是失败；你把自己想象成一个胜利者，它带给你的是成功。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Arial"/>
                <a:ea typeface="黑体"/>
              </a:rPr>
              <a:t>伟大的人生以你想象中的图画——你希望带来什么成就，作一个什么样的人——作为开端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6000" y="549360"/>
            <a:ext cx="8748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我是个有价值的人，是个对社会有益的人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我是个积极、有上进心的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我是个值得信赖的人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我是个遵守纪律的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我是个自制力强的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我是勤奋、刻苦、睿智的人。 “我做得很好，我以后还会做得更好”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黑体"/>
                <a:ea typeface="黑体"/>
              </a:rPr>
              <a:t>以伟人、杰出人物、成功人士为榜样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多读一些名人传记，如毛泽东、周恩来、富兰克林、林肯、海伦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·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凯勒、张海迪、姚明、杏林子等名人的传记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因为他们是成功者，和成功者在一起、才能成为成功者。汲取成功者的精神力量，用他们的精神勉励，鞭策自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1080" y="2649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黑体"/>
              </a:rPr>
              <a:t>你要想实现从“自我”到“超我”的转变，必须付出实实在在的努力，不断地改变自我，完善自我，否则，你只能是不断地重复平庸的自我，只能被动地接受命运的安排。</a:t>
            </a:r>
            <a:r>
              <a:rPr b="0" lang="zh-CN" sz="6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黑体"/>
                <a:ea typeface="黑体"/>
              </a:rPr>
              <a:t>多欣赏高尚的文学艺术作品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黑体"/>
                <a:ea typeface="黑体"/>
              </a:rPr>
              <a:t>多欣赏经典音乐，品读、背诵经典文章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黑体"/>
                <a:ea typeface="黑体"/>
              </a:rPr>
              <a:t>多参加高尚的活动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黑体"/>
                <a:ea typeface="黑体"/>
              </a:rPr>
              <a:t>多结交高尚的朋友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黑体"/>
                <a:ea typeface="黑体"/>
              </a:rPr>
              <a:t>决不违犯学校、班级的纪律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820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黑体"/>
                <a:ea typeface="黑体"/>
              </a:rPr>
              <a:t>远离庸俗的不健康的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  <a:ea typeface="黑体"/>
              </a:rPr>
              <a:t>杂志、报刊、影视、网络作品</a:t>
            </a:r>
            <a:r>
              <a:rPr b="1" lang="zh-CN" sz="66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黑体"/>
                <a:ea typeface="黑体"/>
              </a:rPr>
              <a:t>随时提醒自己：“我现在是否在浪费时间？”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8000" y="2116080"/>
            <a:ext cx="9144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c5900"/>
                </a:solidFill>
                <a:latin typeface="华文新魏"/>
                <a:ea typeface="华文新魏"/>
              </a:rPr>
              <a:t>    </a:t>
            </a:r>
            <a:r>
              <a:rPr b="1" lang="zh-CN" sz="8800" spc="-1" strike="noStrike">
                <a:solidFill>
                  <a:srgbClr val="dc5900"/>
                </a:solidFill>
                <a:latin typeface="华文新魏"/>
                <a:ea typeface="华文新魏"/>
              </a:rPr>
              <a:t>你已经成功了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560" y="1628640"/>
            <a:ext cx="889308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99"/>
                </a:solidFill>
                <a:latin typeface="Arial"/>
                <a:ea typeface="隶书"/>
              </a:rPr>
              <a:t>  </a:t>
            </a:r>
            <a:r>
              <a:rPr b="1" lang="zh-CN" sz="8000" spc="-1" strike="noStrike">
                <a:solidFill>
                  <a:srgbClr val="003399"/>
                </a:solidFill>
                <a:latin typeface="Arial"/>
                <a:ea typeface="隶书"/>
              </a:rPr>
              <a:t>完善自我的方法</a:t>
            </a:r>
            <a:br>
              <a:rPr sz="8000"/>
            </a:br>
            <a:r>
              <a:rPr b="1" lang="zh-CN" sz="7200" spc="-1" strike="noStrike">
                <a:solidFill>
                  <a:srgbClr val="dc5900"/>
                </a:solidFill>
                <a:latin typeface="黑体"/>
                <a:ea typeface="黑体"/>
              </a:rPr>
              <a:t>1</a:t>
            </a:r>
            <a:r>
              <a:rPr b="1" lang="zh-CN" sz="7200" spc="-1" strike="noStrike">
                <a:solidFill>
                  <a:srgbClr val="dc5900"/>
                </a:solidFill>
                <a:latin typeface="黑体"/>
                <a:ea typeface="黑体"/>
              </a:rPr>
              <a:t>、改变心态 </a:t>
            </a:r>
            <a:br>
              <a:rPr sz="7200"/>
            </a:br>
            <a:r>
              <a:rPr b="1" lang="zh-CN" sz="7200" spc="-1" strike="noStrike">
                <a:solidFill>
                  <a:srgbClr val="dc5900"/>
                </a:solidFill>
                <a:latin typeface="黑体"/>
                <a:ea typeface="黑体"/>
              </a:rPr>
              <a:t>2</a:t>
            </a:r>
            <a:r>
              <a:rPr b="1" lang="zh-CN" sz="7200" spc="-1" strike="noStrike">
                <a:solidFill>
                  <a:srgbClr val="dc5900"/>
                </a:solidFill>
                <a:latin typeface="黑体"/>
                <a:ea typeface="黑体"/>
              </a:rPr>
              <a:t>、改变不良习惯</a:t>
            </a:r>
            <a:br>
              <a:rPr sz="7200"/>
            </a:br>
            <a:r>
              <a:rPr b="1" lang="zh-CN" sz="7200" spc="-1" strike="noStrike">
                <a:solidFill>
                  <a:srgbClr val="dc5900"/>
                </a:solidFill>
                <a:latin typeface="黑体"/>
                <a:ea typeface="黑体"/>
              </a:rPr>
              <a:t>3</a:t>
            </a:r>
            <a:r>
              <a:rPr b="1" lang="zh-CN" sz="7200" spc="-1" strike="noStrike">
                <a:solidFill>
                  <a:srgbClr val="dc5900"/>
                </a:solidFill>
                <a:latin typeface="黑体"/>
                <a:ea typeface="黑体"/>
              </a:rPr>
              <a:t>、提高自我意识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8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468720" y="1773360"/>
            <a:ext cx="96123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c5900"/>
                </a:solidFill>
                <a:latin typeface="Arial"/>
                <a:ea typeface="黑体"/>
              </a:rPr>
              <a:t>（一）</a:t>
            </a:r>
            <a:br>
              <a:rPr sz="8000"/>
            </a:br>
            <a:r>
              <a:rPr b="1" lang="zh-CN" sz="8000" spc="-1" strike="noStrike">
                <a:solidFill>
                  <a:srgbClr val="dc5900"/>
                </a:solidFill>
                <a:latin typeface="Arial"/>
                <a:ea typeface="黑体"/>
              </a:rPr>
              <a:t>改变自己的心态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907920"/>
            <a:ext cx="810072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-232200"/>
            <a:ext cx="91440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你为失败付出的代价要远远地高于你为成功付出的努力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聪明人辛苦一时，愚笨者辛苦一世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你的心态就是你人生的一根杠杆，把握住积极的动力臂，你就可以撑起属于自己的整个世界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c5900"/>
                </a:solidFill>
                <a:latin typeface="Arial"/>
                <a:ea typeface="黑体"/>
              </a:rPr>
              <a:t>（二）</a:t>
            </a:r>
            <a:br>
              <a:rPr sz="8000"/>
            </a:br>
            <a:r>
              <a:rPr b="1" lang="zh-CN" sz="8000" spc="-1" strike="noStrike">
                <a:solidFill>
                  <a:srgbClr val="dc5900"/>
                </a:solidFill>
                <a:latin typeface="Arial"/>
                <a:ea typeface="黑体"/>
              </a:rPr>
              <a:t>改变不良学习习惯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540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09280"/>
            <a:ext cx="9468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不会合理利用时间，缺少计划性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课前不预习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课堂上思考少，很少做笔记，经常溜号、走神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完成作业拖拖拉拉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完成作业后从不复习或总结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黑体"/>
              </a:rPr>
              <a:t>做事没有恒心，总是半途而废。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99"/>
                </a:solidFill>
                <a:latin typeface="Arial"/>
              </a:rPr>
              <a:t>向坏习惯宣战</a:t>
            </a:r>
            <a:endParaRPr b="0" lang="en-US" sz="8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71640" y="1125360"/>
            <a:ext cx="9396360" cy="63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66ff"/>
                </a:solidFill>
                <a:latin typeface="Arial"/>
                <a:ea typeface="黑体"/>
              </a:rPr>
              <a:t>要破除一种坏习惯，必须培植一种好习惯取而代之。但是，一种习惯的形成可以说是一个非常艰难的过程，尤其在一开始是这样的。但如果你能不断坚持，不断重复，慢慢地，习惯就会成自然。</a:t>
            </a:r>
            <a:endParaRPr b="0" lang="en-US" sz="5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500" spc="-1" strike="noStrike">
                <a:solidFill>
                  <a:srgbClr val="3366ff"/>
                </a:solidFill>
                <a:latin typeface="黑体"/>
                <a:ea typeface="黑体"/>
              </a:rPr>
              <a:t>心理学家研究发现：</a:t>
            </a:r>
            <a:endParaRPr b="0" lang="en-US" sz="8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108000" y="2060640"/>
            <a:ext cx="99014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3366ff"/>
                </a:solidFill>
                <a:latin typeface="黑体"/>
                <a:ea typeface="黑体"/>
              </a:rPr>
              <a:t>经过</a:t>
            </a:r>
            <a:r>
              <a:rPr b="1" lang="zh-CN" sz="7000" spc="-1" strike="noStrike">
                <a:solidFill>
                  <a:srgbClr val="dc5900"/>
                </a:solidFill>
                <a:latin typeface="黑体"/>
                <a:ea typeface="黑体"/>
              </a:rPr>
              <a:t>21</a:t>
            </a:r>
            <a:r>
              <a:rPr b="1" lang="zh-CN" sz="7000" spc="-1" strike="noStrike">
                <a:solidFill>
                  <a:srgbClr val="dc5900"/>
                </a:solidFill>
                <a:latin typeface="黑体"/>
                <a:ea typeface="黑体"/>
              </a:rPr>
              <a:t>天</a:t>
            </a:r>
            <a:r>
              <a:rPr b="1" lang="zh-CN" sz="7000" spc="-1" strike="noStrike">
                <a:solidFill>
                  <a:srgbClr val="3366ff"/>
                </a:solidFill>
                <a:latin typeface="黑体"/>
                <a:ea typeface="黑体"/>
              </a:rPr>
              <a:t>的不断重复，会形成一种习惯。</a:t>
            </a:r>
            <a:endParaRPr b="0" lang="en-US" sz="7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dc5900"/>
                </a:solidFill>
                <a:latin typeface="黑体"/>
                <a:ea typeface="黑体"/>
              </a:rPr>
              <a:t>90</a:t>
            </a:r>
            <a:r>
              <a:rPr b="1" lang="zh-CN" sz="7000" spc="-1" strike="noStrike">
                <a:solidFill>
                  <a:srgbClr val="dc5900"/>
                </a:solidFill>
                <a:latin typeface="黑体"/>
                <a:ea typeface="黑体"/>
              </a:rPr>
              <a:t>天</a:t>
            </a:r>
            <a:r>
              <a:rPr b="1" lang="zh-CN" sz="7000" spc="-1" strike="noStrike">
                <a:solidFill>
                  <a:srgbClr val="3366ff"/>
                </a:solidFill>
                <a:latin typeface="黑体"/>
                <a:ea typeface="黑体"/>
              </a:rPr>
              <a:t>的重复会内化一</a:t>
            </a:r>
            <a:endParaRPr b="0" lang="en-US" sz="7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3366ff"/>
                </a:solidFill>
                <a:latin typeface="黑体"/>
                <a:ea typeface="黑体"/>
              </a:rPr>
              <a:t> </a:t>
            </a:r>
            <a:r>
              <a:rPr b="1" lang="zh-CN" sz="7000" spc="-1" strike="noStrike">
                <a:solidFill>
                  <a:srgbClr val="3366ff"/>
                </a:solidFill>
                <a:latin typeface="黑体"/>
                <a:ea typeface="黑体"/>
              </a:rPr>
              <a:t>种稳定的习惯。</a:t>
            </a:r>
            <a:endParaRPr b="0" lang="en-US" sz="7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1:54:5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26:30Z</dcterms:modified>
  <cp:revision>12</cp:revision>
  <dc:subject>主题班会课件(分28大类): http://shop62905894.taobao.com</dc:subject>
  <dc:title>主题班会课件(分28大类): http://shop62905894.taobao.com</dc:title>
</cp:coreProperties>
</file>